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BLITHER.wav" ContentType="audio/x-wav"/>
  <Override PartName="/ppt/media/image2.png" ContentType="image/png"/>
  <Override PartName="/ppt/media/dramaticmusic9.wav" ContentType="audio/x-wav"/>
  <Override PartName="/ppt/media/dramatic-ORCHESTR.wav" ContentType="audio/x-wav"/>
  <Override PartName="/ppt/media/spring-boing.wav" ContentType="audio/x-wav"/>
  <Override PartName="/ppt/media/BYE.wav" ContentType="audio/x-wav"/>
  <Override PartName="/ppt/media/scifi.wav" ContentType="audio/x-wav"/>
  <Override PartName="/ppt/media/beatlesbeep.wav" ContentType="audio/x-wav"/>
  <Override PartName="/ppt/media/bond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059-6A13-4980-93F5-0B97ABDD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376-1FE1-4123-8A95-8D3D75D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842-F621-4244-8DD5-479ABCA6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255-6BE1-4147-B84D-F1812635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DD2-8B9A-4D02-8B2C-CC440939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483-1301-40D3-8639-AA6ADB87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006-2D07-416F-A9F1-7E3C115F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177-2806-4BCC-9232-EAAEF13B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A3F-2F07-4F57-9C4C-21A53616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D83-44C8-4291-8BB5-FEE0977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5D3-F56E-46EC-8660-92D65A0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5A5-4E36-4440-9F09-EC2A748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0967-E954-4A6C-8548-166DCD452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amaticmusic9.wav"/><Relationship Id="rId4" Type="http://schemas.openxmlformats.org/officeDocument/2006/relationships/audio" Target="../media/dramatic-ORCHEST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cifi.wav"/><Relationship Id="rId2" Type="http://schemas.openxmlformats.org/officeDocument/2006/relationships/audio" Target="../media/spring-boing.wav"/><Relationship Id="rId3" Type="http://schemas.openxmlformats.org/officeDocument/2006/relationships/audio" Target="../media/BLITHER.wav"/><Relationship Id="rId4" Type="http://schemas.openxmlformats.org/officeDocument/2006/relationships/audio" Target="../media/beatlesbeep.wav"/><Relationship Id="rId5" Type="http://schemas.openxmlformats.org/officeDocument/2006/relationships/audio" Target="../media/spring-boing.wav"/><Relationship Id="rId6" Type="http://schemas.openxmlformats.org/officeDocument/2006/relationships/audio" Target="../media/BYE.wav"/><Relationship Id="rId7" Type="http://schemas.openxmlformats.org/officeDocument/2006/relationships/audio" Target="../media/bond2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Lette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1523880" y="1263600"/>
            <a:ext cx="6153120" cy="5594400"/>
            <a:chOff x="1523880" y="1263600"/>
            <a:chExt cx="6153120" cy="5594400"/>
          </a:xfrm>
        </p:grpSpPr>
        <p:pic>
          <p:nvPicPr>
            <p:cNvPr id="43" name="Picture 5" descr="writing"/>
            <p:cNvPicPr/>
            <p:nvPr/>
          </p:nvPicPr>
          <p:blipFill>
            <a:blip r:embed="rId1"/>
            <a:stretch/>
          </p:blipFill>
          <p:spPr>
            <a:xfrm>
              <a:off x="1523880" y="1263600"/>
              <a:ext cx="615312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6"/>
            <p:cNvSpPr/>
            <p:nvPr/>
          </p:nvSpPr>
          <p:spPr>
            <a:xfrm>
              <a:off x="1676520" y="1447920"/>
              <a:ext cx="5790960" cy="14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arts of A Friendly Lett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8" descr="Pencilhuge"/>
          <p:cNvPicPr/>
          <p:nvPr/>
        </p:nvPicPr>
        <p:blipFill>
          <a:blip r:embed="rId2"/>
          <a:stretch/>
        </p:blipFill>
        <p:spPr>
          <a:xfrm>
            <a:off x="6324480" y="304920"/>
            <a:ext cx="8906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amaticmusic9.wav"/>
                                        </p:tgtEl>
                                      </p:cMediaNode>
                                    </p:audio>
                                    <p:animMotion origin="layout" path="M -0.41823 -0.04583 C -0.41927 -0.03356 -0.42031 -0.02222 -0.4224 -0.00995 C -0.42136 0.00347 -0.42361 0.02153 -0.40868 0.0287 C -0.40469 0.03079 -0.39775 0.03102 -0.3941 0.03148 C -0.38542 0.03032 -0.38056 0.03056 -0.37691 0.02245 C -0.3757 0.01991 -0.37518 0.01713 -0.37413 0.01458 C -0.37379 0.01343 -0.37275 0.01088 -0.37275 0.01111 C -0.37101 0.01319 -0.37066 0.01644 -0.36893 0.01852 C -0.36719 0.02083 -0.36406 0.02176 -0.36198 0.02361 C -0.35764 0.02222 -0.35 0.01713 -0.35 0.01736 C -0.34393 0.00532 -0.34566 0.00324 -0.3434 0.01204 C -0.34306 0.01806 -0.34688 0.03958 -0.33403 0.03519 C -0.3283 0.02963 -0.32709 0.02431 -0.32483 0.01713 C -0.32327 0.02569 -0.32327 0.02616 -0.31545 0.0287 C -0.30365 0.02708 -0.30434 0.02569 -0.29531 0.01991 C -0.29479 0.01852 -0.29254 0.01597 -0.29393 0.01597 C -0.29549 0.01597 -0.29636 0.01829 -0.29653 0.01991 C -0.29705 0.02269 -0.29566 0.02593 -0.29531 0.0287 C -0.28993 0.02708 -0.28733 0.025 -0.28316 0.02106 C -0.28281 0.02014 -0.28021 0.01181 -0.27934 0.01204 C -0.27622 0.01296 -0.2757 0.01713 -0.27396 0.01991 C -0.27327 0.02083 -0.27136 0.02083 -0.26997 0.02106 C -0.254 0.01991 -0.25087 0.02199 -0.24445 0.00949 C -0.24323 0.01458 -0.24219 0.01806 -0.23906 0.02245 C -0.22952 0.01921 -0.22101 0.01088 -0.21511 0.00301 C -0.21337 -0.00162 -0.21268 -0.01065 -0.2099 0.00046 C -0.20886 0.02106 -0.21424 0.03079 -0.19931 0.02106 C -0.19827 0.01944 -0.19757 0.01759 -0.19636 0.01597 C -0.19514 0.01458 -0.1934 0.01366 -0.19236 0.01204 C -0.18872 0.00556 -0.18854 0.00069 -0.18316 -0.00486 C -0.18073 -0.01389 -0.17604 -0.0213 -0.17379 -0.03056 C -0.17327 -0.0331 -0.17483 -0.02546 -0.17518 -0.02292 C -0.17604 -0.01505 -0.17674 -0.00718 -0.17761 0.00046 C -0.17726 0.00486 -0.1783 0.00949 -0.17656 0.01343 C -0.1757 0.01481 -0.17361 0.01181 -0.1724 0.01088 C -0.1625 0.00116 -0.17379 0.00926 -0.16441 0.00301 C -0.15677 -0.00764 -0.15886 -0.00972 -0.15643 -0.00069 C -0.15556 0.00972 -0.15799 0.01574 -0.14983 0.02106 C -0.13785 0.01806 -0.13021 0.00926 -0.12031 0.00301 C -0.11719 0.01181 -0.11875 0.01366 -0.11111 0.01713 C -0.10469 0.01111 -0.09618 0.00671 -0.08959 0.00046 C -0.08837 0.00069 -0.08611 0.00046 -0.08559 0.00185 C -0.08403 0.00486 -0.08733 0.01042 -0.0842 0.01204 C -0.08125 0.01366 -0.079 0.00856 -0.07622 0.00694 C -0.06962 0.00278 -0.0684 0.00185 -0.06025 0.00046 C -0.03038 0.00231 -0.03785 0.00139 -0.04965 0.0044 C -0.05538 0.00856 -0.05938 0.01296 -0.06163 0.01991 C -0.06129 0.02153 -0.06181 0.02431 -0.06025 0.025 C -0.05139 0.0287 -0.04236 0.01551 -0.04028 0.00949 C -0.04167 0.02106 -0.04045 0.0287 -0.05226 0.03264 C -0.04792 0.02847 -0.03663 0.02083 -0.03351 0.01597 C -0.03247 0.01458 -0.03195 0.01319 -0.03073 0.01204 C -0.0283 0.01019 -0.02552 0.00856 -0.02275 0.00694 C -0.02153 0.00602 -0.01875 0.0044 -0.01875 0.00463 C -0.01406 -0.00255 -0.00625 -0.00532 2.22222E-006 -0.01134 E"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amatic-ORCHEST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6172200" y="533520"/>
            <a:ext cx="2514600" cy="477720"/>
            <a:chOff x="6172200" y="533520"/>
            <a:chExt cx="2514600" cy="477720"/>
          </a:xfrm>
        </p:grpSpPr>
        <p:sp>
          <p:nvSpPr>
            <p:cNvPr id="47" name="Line 5"/>
            <p:cNvSpPr/>
            <p:nvPr/>
          </p:nvSpPr>
          <p:spPr>
            <a:xfrm>
              <a:off x="6172200" y="5335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6172200" y="762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7"/>
            <p:cNvSpPr/>
            <p:nvPr/>
          </p:nvSpPr>
          <p:spPr>
            <a:xfrm>
              <a:off x="6172200" y="101124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9"/>
          <p:cNvSpPr/>
          <p:nvPr/>
        </p:nvSpPr>
        <p:spPr>
          <a:xfrm>
            <a:off x="304920" y="1981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6"/>
          <p:cNvGrpSpPr/>
          <p:nvPr/>
        </p:nvGrpSpPr>
        <p:grpSpPr>
          <a:xfrm>
            <a:off x="304920" y="2438280"/>
            <a:ext cx="8153280" cy="3048120"/>
            <a:chOff x="304920" y="2438280"/>
            <a:chExt cx="8153280" cy="3048120"/>
          </a:xfrm>
        </p:grpSpPr>
        <p:sp>
          <p:nvSpPr>
            <p:cNvPr id="52" name="Line 10"/>
            <p:cNvSpPr/>
            <p:nvPr/>
          </p:nvSpPr>
          <p:spPr>
            <a:xfrm>
              <a:off x="1066680" y="24382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304920" y="2743200"/>
              <a:ext cx="8153280" cy="914400"/>
              <a:chOff x="304920" y="2743200"/>
              <a:chExt cx="8153280" cy="914400"/>
            </a:xfrm>
          </p:grpSpPr>
          <p:sp>
            <p:nvSpPr>
              <p:cNvPr id="54" name="Line 11"/>
              <p:cNvSpPr/>
              <p:nvPr/>
            </p:nvSpPr>
            <p:spPr>
              <a:xfrm>
                <a:off x="304920" y="274320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2"/>
              <p:cNvSpPr/>
              <p:nvPr/>
            </p:nvSpPr>
            <p:spPr>
              <a:xfrm>
                <a:off x="304920" y="304812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3"/>
              <p:cNvSpPr/>
              <p:nvPr/>
            </p:nvSpPr>
            <p:spPr>
              <a:xfrm>
                <a:off x="304920" y="335268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4"/>
              <p:cNvSpPr/>
              <p:nvPr/>
            </p:nvSpPr>
            <p:spPr>
              <a:xfrm>
                <a:off x="304920" y="365760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6"/>
            <p:cNvGrpSpPr/>
            <p:nvPr/>
          </p:nvGrpSpPr>
          <p:grpSpPr>
            <a:xfrm>
              <a:off x="304920" y="3962520"/>
              <a:ext cx="8153280" cy="914400"/>
              <a:chOff x="304920" y="3962520"/>
              <a:chExt cx="8153280" cy="914400"/>
            </a:xfrm>
          </p:grpSpPr>
          <p:sp>
            <p:nvSpPr>
              <p:cNvPr id="59" name="Line 17"/>
              <p:cNvSpPr/>
              <p:nvPr/>
            </p:nvSpPr>
            <p:spPr>
              <a:xfrm>
                <a:off x="304920" y="396252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8"/>
              <p:cNvSpPr/>
              <p:nvPr/>
            </p:nvSpPr>
            <p:spPr>
              <a:xfrm>
                <a:off x="304920" y="426744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9"/>
              <p:cNvSpPr/>
              <p:nvPr/>
            </p:nvSpPr>
            <p:spPr>
              <a:xfrm>
                <a:off x="304920" y="457200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0"/>
              <p:cNvSpPr/>
              <p:nvPr/>
            </p:nvSpPr>
            <p:spPr>
              <a:xfrm>
                <a:off x="304920" y="4876920"/>
                <a:ext cx="81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Line 22"/>
            <p:cNvSpPr/>
            <p:nvPr/>
          </p:nvSpPr>
          <p:spPr>
            <a:xfrm>
              <a:off x="304920" y="518148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3"/>
            <p:cNvSpPr/>
            <p:nvPr/>
          </p:nvSpPr>
          <p:spPr>
            <a:xfrm>
              <a:off x="304920" y="54864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26"/>
          <p:cNvSpPr/>
          <p:nvPr/>
        </p:nvSpPr>
        <p:spPr>
          <a:xfrm>
            <a:off x="5257800" y="5867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525780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3200400" y="1447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1"/>
          <p:cNvSpPr/>
          <p:nvPr/>
        </p:nvSpPr>
        <p:spPr>
          <a:xfrm>
            <a:off x="1905120" y="228600"/>
            <a:ext cx="3962160" cy="1295280"/>
          </a:xfrm>
          <a:prstGeom prst="rightArrow">
            <a:avLst>
              <a:gd name="adj1" fmla="val 50000"/>
              <a:gd name="adj2" fmla="val 764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2"/>
          <p:cNvSpPr/>
          <p:nvPr/>
        </p:nvSpPr>
        <p:spPr>
          <a:xfrm>
            <a:off x="3657600" y="1523880"/>
            <a:ext cx="3581280" cy="762120"/>
          </a:xfrm>
          <a:prstGeom prst="leftArrow">
            <a:avLst>
              <a:gd name="adj1" fmla="val 50000"/>
              <a:gd name="adj2" fmla="val 11747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3"/>
          <p:cNvSpPr txBox="1"/>
          <p:nvPr/>
        </p:nvSpPr>
        <p:spPr>
          <a:xfrm>
            <a:off x="2286000" y="2895480"/>
            <a:ext cx="411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d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AutoShape 34"/>
          <p:cNvSpPr/>
          <p:nvPr/>
        </p:nvSpPr>
        <p:spPr>
          <a:xfrm>
            <a:off x="2743200" y="5410080"/>
            <a:ext cx="2438280" cy="685800"/>
          </a:xfrm>
          <a:prstGeom prst="rightArrow">
            <a:avLst>
              <a:gd name="adj1" fmla="val 50000"/>
              <a:gd name="adj2" fmla="val 8888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5"/>
          <p:cNvSpPr/>
          <p:nvPr/>
        </p:nvSpPr>
        <p:spPr>
          <a:xfrm>
            <a:off x="1219320" y="5943600"/>
            <a:ext cx="3962160" cy="685800"/>
          </a:xfrm>
          <a:prstGeom prst="rightArrow">
            <a:avLst>
              <a:gd name="adj1" fmla="val 50000"/>
              <a:gd name="adj2" fmla="val 1444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ush Script MT"/>
              </a:rPr>
              <a:t>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8381880" y="53341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cif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ring-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LITH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atles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ring-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Y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45:17Z</dcterms:created>
  <dc:creator>Connie Campbell</dc:creator>
  <dc:description/>
  <dc:language>en-US</dc:language>
  <cp:lastModifiedBy>teacher</cp:lastModifiedBy>
  <dcterms:modified xsi:type="dcterms:W3CDTF">2010-11-06T19:42:42Z</dcterms:modified>
  <cp:revision>3</cp:revision>
  <dc:subject/>
  <dc:title>Letter Writing</dc:title>
</cp:coreProperties>
</file>